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2CE42-85EE-4BED-87A8-977249EBA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4C9D5-ABA8-44AE-BB88-3E2A6EFAC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CA855-C36B-40F8-BF3C-1CF4FAA71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3C4E4-64B7-4528-AA67-425C75CCD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95361-5C2E-4A3E-83AF-B8D3B7D2C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1CE7B-183E-4FC1-A4A6-F6D0D389A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DBD0F-5508-4BAB-8D96-ECDF34F71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C658D-7AE3-41E7-8D70-6C2BE9B43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41424-48B9-4E60-970F-F97D9126C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F000B-3C28-4ABA-B995-AFC2E9BF3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554ED-84AD-40B9-8848-D8F6A13B8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08397-71B6-4256-9A0A-2BA03EB07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31EC4-B506-4C9A-A424-ECC392BD38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15000" y="273672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reedsch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569880" y="4392720"/>
            <a:ext cx="1636920" cy="1007640"/>
            <a:chOff x="569880" y="4392720"/>
            <a:chExt cx="1636920" cy="1007640"/>
          </a:xfrm>
        </p:grpSpPr>
        <p:sp>
          <p:nvSpPr>
            <p:cNvPr id="43" name=""/>
            <p:cNvSpPr/>
            <p:nvPr/>
          </p:nvSpPr>
          <p:spPr>
            <a:xfrm>
              <a:off x="569880" y="4392720"/>
              <a:ext cx="1636920" cy="769680"/>
            </a:xfrm>
            <a:custGeom>
              <a:avLst/>
              <a:gdLst>
                <a:gd name="textAreaLeft" fmla="*/ 232200 w 1636920"/>
                <a:gd name="textAreaRight" fmla="*/ 1404720 w 1636920"/>
                <a:gd name="textAreaTop" fmla="*/ 109080 h 769680"/>
                <a:gd name="textAreaBottom" fmla="*/ 660600 h 769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231" y="21600"/>
                  </a:lnTo>
                  <a:lnTo>
                    <a:pt x="2369" y="21600"/>
                  </a:lnTo>
                  <a:close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908640" y="4984560"/>
              <a:ext cx="396000" cy="41580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474200" y="4984560"/>
              <a:ext cx="396000" cy="41580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929880" y="5616720"/>
            <a:ext cx="9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jnk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210840" y="5688000"/>
            <a:ext cx="11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ynami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335920" y="2800440"/>
            <a:ext cx="161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jnconcess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5478480" y="855720"/>
            <a:ext cx="1326600" cy="1655640"/>
            <a:chOff x="5478480" y="855720"/>
            <a:chExt cx="1326600" cy="1655640"/>
          </a:xfrm>
        </p:grpSpPr>
        <p:sp>
          <p:nvSpPr>
            <p:cNvPr id="50" name=""/>
            <p:cNvSpPr/>
            <p:nvPr/>
          </p:nvSpPr>
          <p:spPr>
            <a:xfrm>
              <a:off x="5478480" y="855720"/>
              <a:ext cx="1326600" cy="165564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672880" y="1144440"/>
              <a:ext cx="937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672880" y="1360440"/>
              <a:ext cx="937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672880" y="1576440"/>
              <a:ext cx="937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672880" y="1792440"/>
              <a:ext cx="937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239160" y="2224080"/>
              <a:ext cx="312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2868480" y="4824360"/>
            <a:ext cx="1793520" cy="447480"/>
            <a:chOff x="2868480" y="4824360"/>
            <a:chExt cx="1793520" cy="447480"/>
          </a:xfrm>
        </p:grpSpPr>
        <p:sp>
          <p:nvSpPr>
            <p:cNvPr id="57" name=""/>
            <p:cNvSpPr/>
            <p:nvPr/>
          </p:nvSpPr>
          <p:spPr>
            <a:xfrm>
              <a:off x="2868480" y="4824360"/>
              <a:ext cx="1132920" cy="2887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997800" y="4897440"/>
              <a:ext cx="513360" cy="215640"/>
            </a:xfrm>
            <a:custGeom>
              <a:avLst/>
              <a:gdLst/>
              <a:ahLst/>
              <a:rect l="l" t="t" r="r" b="b"/>
              <a:pathLst>
                <a:path w="680" h="138">
                  <a:moveTo>
                    <a:pt x="0" y="63"/>
                  </a:moveTo>
                  <a:cubicBezTo>
                    <a:pt x="26" y="24"/>
                    <a:pt x="53" y="21"/>
                    <a:pt x="96" y="7"/>
                  </a:cubicBezTo>
                  <a:cubicBezTo>
                    <a:pt x="131" y="10"/>
                    <a:pt x="168" y="0"/>
                    <a:pt x="200" y="15"/>
                  </a:cubicBezTo>
                  <a:cubicBezTo>
                    <a:pt x="215" y="22"/>
                    <a:pt x="207" y="49"/>
                    <a:pt x="216" y="63"/>
                  </a:cubicBezTo>
                  <a:cubicBezTo>
                    <a:pt x="243" y="103"/>
                    <a:pt x="323" y="99"/>
                    <a:pt x="360" y="103"/>
                  </a:cubicBezTo>
                  <a:cubicBezTo>
                    <a:pt x="413" y="138"/>
                    <a:pt x="604" y="135"/>
                    <a:pt x="680" y="135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 flipV="1">
              <a:off x="4394880" y="4944600"/>
              <a:ext cx="86040" cy="106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 flipV="1">
              <a:off x="4533480" y="4901760"/>
              <a:ext cx="5616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H="1">
              <a:off x="4379760" y="5160960"/>
              <a:ext cx="82440" cy="9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529880" y="5165640"/>
              <a:ext cx="59760" cy="106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548600" y="5108400"/>
              <a:ext cx="113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" name=""/>
          <p:cNvGrpSpPr/>
          <p:nvPr/>
        </p:nvGrpSpPr>
        <p:grpSpPr>
          <a:xfrm>
            <a:off x="2950560" y="593640"/>
            <a:ext cx="1701720" cy="2027520"/>
            <a:chOff x="2950560" y="593640"/>
            <a:chExt cx="1701720" cy="2027520"/>
          </a:xfrm>
        </p:grpSpPr>
        <p:sp>
          <p:nvSpPr>
            <p:cNvPr id="65" name=""/>
            <p:cNvSpPr/>
            <p:nvPr/>
          </p:nvSpPr>
          <p:spPr>
            <a:xfrm flipH="1">
              <a:off x="3434400" y="925200"/>
              <a:ext cx="680040" cy="1589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3231360" y="925200"/>
              <a:ext cx="771480" cy="1040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 flipH="1">
              <a:off x="2950560" y="744120"/>
              <a:ext cx="492840" cy="36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 rot="8607600">
              <a:off x="3857400" y="1872720"/>
              <a:ext cx="639000" cy="618840"/>
            </a:xfrm>
            <a:custGeom>
              <a:avLst/>
              <a:gdLst/>
              <a:ahLst/>
              <a:rect l="l" t="t" r="r" b="b"/>
              <a:pathLst>
                <a:path w="363" h="499">
                  <a:moveTo>
                    <a:pt x="0" y="499"/>
                  </a:moveTo>
                  <a:lnTo>
                    <a:pt x="46" y="90"/>
                  </a:lnTo>
                  <a:cubicBezTo>
                    <a:pt x="76" y="7"/>
                    <a:pt x="137" y="0"/>
                    <a:pt x="182" y="0"/>
                  </a:cubicBezTo>
                  <a:cubicBezTo>
                    <a:pt x="227" y="0"/>
                    <a:pt x="288" y="7"/>
                    <a:pt x="318" y="90"/>
                  </a:cubicBezTo>
                  <a:lnTo>
                    <a:pt x="363" y="499"/>
                  </a:lnTo>
                  <a:lnTo>
                    <a:pt x="0" y="499"/>
                  </a:lnTo>
                  <a:close/>
                </a:path>
              </a:pathLst>
            </a:custGeom>
            <a:solidFill>
              <a:srgbClr val="ffff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flipV="1" rot="6793800">
              <a:off x="3962880" y="404640"/>
              <a:ext cx="288720" cy="1062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5907240" y="4392720"/>
            <a:ext cx="466560" cy="1007640"/>
            <a:chOff x="5907240" y="4392720"/>
            <a:chExt cx="466560" cy="1007640"/>
          </a:xfrm>
        </p:grpSpPr>
        <p:sp>
          <p:nvSpPr>
            <p:cNvPr id="71" name=""/>
            <p:cNvSpPr/>
            <p:nvPr/>
          </p:nvSpPr>
          <p:spPr>
            <a:xfrm>
              <a:off x="5940720" y="4392720"/>
              <a:ext cx="399240" cy="287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140520" y="4680360"/>
              <a:ext cx="0" cy="479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" name=""/>
            <p:cNvGrpSpPr/>
            <p:nvPr/>
          </p:nvGrpSpPr>
          <p:grpSpPr>
            <a:xfrm>
              <a:off x="5940360" y="5160600"/>
              <a:ext cx="399600" cy="239760"/>
              <a:chOff x="5940360" y="5160600"/>
              <a:chExt cx="399600" cy="239760"/>
            </a:xfrm>
          </p:grpSpPr>
          <p:sp>
            <p:nvSpPr>
              <p:cNvPr id="74" name=""/>
              <p:cNvSpPr/>
              <p:nvPr/>
            </p:nvSpPr>
            <p:spPr>
              <a:xfrm flipH="1">
                <a:off x="5940360" y="5160600"/>
                <a:ext cx="199800" cy="2397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6140520" y="5160600"/>
                <a:ext cx="199440" cy="2397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" name=""/>
            <p:cNvSpPr/>
            <p:nvPr/>
          </p:nvSpPr>
          <p:spPr>
            <a:xfrm>
              <a:off x="5907240" y="4872600"/>
              <a:ext cx="466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5517360" y="5564160"/>
            <a:ext cx="124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krac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7816680" y="4457880"/>
            <a:ext cx="1403280" cy="1368360"/>
            <a:chOff x="7816680" y="4457880"/>
            <a:chExt cx="1403280" cy="1368360"/>
          </a:xfrm>
        </p:grpSpPr>
        <p:sp>
          <p:nvSpPr>
            <p:cNvPr id="79" name=""/>
            <p:cNvSpPr/>
            <p:nvPr/>
          </p:nvSpPr>
          <p:spPr>
            <a:xfrm>
              <a:off x="7971480" y="4602240"/>
              <a:ext cx="154800" cy="12240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908920" y="4602240"/>
              <a:ext cx="154080" cy="12240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16680" y="4457880"/>
              <a:ext cx="1403280" cy="1443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8021880" y="5897520"/>
            <a:ext cx="99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uth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451440" y="1135440"/>
            <a:ext cx="1837440" cy="951840"/>
            <a:chOff x="451440" y="1135440"/>
            <a:chExt cx="1837440" cy="951840"/>
          </a:xfrm>
        </p:grpSpPr>
        <p:sp>
          <p:nvSpPr>
            <p:cNvPr id="84" name=""/>
            <p:cNvSpPr/>
            <p:nvPr/>
          </p:nvSpPr>
          <p:spPr>
            <a:xfrm>
              <a:off x="1988640" y="1446480"/>
              <a:ext cx="300240" cy="147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0024400">
              <a:off x="488520" y="1151640"/>
              <a:ext cx="118800" cy="1965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6" name=""/>
            <p:cNvGrpSpPr/>
            <p:nvPr/>
          </p:nvGrpSpPr>
          <p:grpSpPr>
            <a:xfrm>
              <a:off x="999360" y="1693080"/>
              <a:ext cx="897840" cy="394200"/>
              <a:chOff x="999360" y="1693080"/>
              <a:chExt cx="897840" cy="394200"/>
            </a:xfrm>
          </p:grpSpPr>
          <p:sp>
            <p:nvSpPr>
              <p:cNvPr id="87" name=""/>
              <p:cNvSpPr/>
              <p:nvPr/>
            </p:nvSpPr>
            <p:spPr>
              <a:xfrm>
                <a:off x="999360" y="1693080"/>
                <a:ext cx="118800" cy="39420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1179360" y="1693080"/>
                <a:ext cx="118800" cy="39420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1598760" y="1693080"/>
                <a:ext cx="118800" cy="39420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1778400" y="1693080"/>
                <a:ext cx="118800" cy="39420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1" name=""/>
            <p:cNvSpPr/>
            <p:nvPr/>
          </p:nvSpPr>
          <p:spPr>
            <a:xfrm>
              <a:off x="848520" y="1150920"/>
              <a:ext cx="1199880" cy="7390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8880" y="1200600"/>
              <a:ext cx="539640" cy="4431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rot="1771200">
              <a:off x="908280" y="1151640"/>
              <a:ext cx="118800" cy="1965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28280" y="1398600"/>
              <a:ext cx="59400" cy="4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48280" y="1348560"/>
              <a:ext cx="59400" cy="4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"/>
          <p:cNvSpPr/>
          <p:nvPr/>
        </p:nvSpPr>
        <p:spPr>
          <a:xfrm>
            <a:off x="1026720" y="2374920"/>
            <a:ext cx="72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z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464960" y="2808360"/>
            <a:ext cx="210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ndelsvergu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7853400" y="855720"/>
            <a:ext cx="1326960" cy="1944720"/>
            <a:chOff x="7853400" y="855720"/>
            <a:chExt cx="1326960" cy="1944720"/>
          </a:xfrm>
        </p:grpSpPr>
        <p:sp>
          <p:nvSpPr>
            <p:cNvPr id="99" name=""/>
            <p:cNvSpPr/>
            <p:nvPr/>
          </p:nvSpPr>
          <p:spPr>
            <a:xfrm>
              <a:off x="8574120" y="2297160"/>
              <a:ext cx="431640" cy="503280"/>
            </a:xfrm>
            <a:custGeom>
              <a:avLst/>
              <a:gdLst/>
              <a:ahLst/>
              <a:rect l="l" t="t" r="r" b="b"/>
              <a:pathLst>
                <a:path w="272" h="317">
                  <a:moveTo>
                    <a:pt x="0" y="0"/>
                  </a:moveTo>
                  <a:lnTo>
                    <a:pt x="0" y="317"/>
                  </a:lnTo>
                  <a:lnTo>
                    <a:pt x="136" y="226"/>
                  </a:lnTo>
                  <a:lnTo>
                    <a:pt x="272" y="317"/>
                  </a:lnTo>
                  <a:lnTo>
                    <a:pt x="27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853400" y="855720"/>
              <a:ext cx="1326960" cy="15112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8048520" y="1647720"/>
              <a:ext cx="936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8048520" y="1863720"/>
              <a:ext cx="936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48520" y="1431720"/>
              <a:ext cx="936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574120" y="2081160"/>
              <a:ext cx="431640" cy="431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"/>
          <p:cNvSpPr/>
          <p:nvPr/>
        </p:nvSpPr>
        <p:spPr>
          <a:xfrm>
            <a:off x="4952880" y="243000"/>
            <a:ext cx="2376720" cy="321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329600" y="3456000"/>
            <a:ext cx="2376360" cy="321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329600" y="243000"/>
            <a:ext cx="2376360" cy="321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952880" y="3456000"/>
            <a:ext cx="2376720" cy="321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576520" y="3456000"/>
            <a:ext cx="2376360" cy="321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576520" y="243000"/>
            <a:ext cx="2376360" cy="321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00160" y="243000"/>
            <a:ext cx="2376360" cy="321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00160" y="3456000"/>
            <a:ext cx="2376360" cy="321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"/>
          <p:cNvGrpSpPr/>
          <p:nvPr/>
        </p:nvGrpSpPr>
        <p:grpSpPr>
          <a:xfrm>
            <a:off x="2856600" y="3438360"/>
            <a:ext cx="974880" cy="1300320"/>
            <a:chOff x="2856600" y="3438360"/>
            <a:chExt cx="974880" cy="1300320"/>
          </a:xfrm>
        </p:grpSpPr>
        <p:sp>
          <p:nvSpPr>
            <p:cNvPr id="114" name=""/>
            <p:cNvSpPr/>
            <p:nvPr/>
          </p:nvSpPr>
          <p:spPr>
            <a:xfrm>
              <a:off x="2856600" y="4492440"/>
              <a:ext cx="974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ijnconcessi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5" name=""/>
            <p:cNvGrpSpPr/>
            <p:nvPr/>
          </p:nvGrpSpPr>
          <p:grpSpPr>
            <a:xfrm>
              <a:off x="3017520" y="3438360"/>
              <a:ext cx="652320" cy="812880"/>
              <a:chOff x="3017520" y="3438360"/>
              <a:chExt cx="652320" cy="812880"/>
            </a:xfrm>
          </p:grpSpPr>
          <p:sp>
            <p:nvSpPr>
              <p:cNvPr id="116" name=""/>
              <p:cNvSpPr/>
              <p:nvPr/>
            </p:nvSpPr>
            <p:spPr>
              <a:xfrm>
                <a:off x="3017520" y="3438360"/>
                <a:ext cx="652320" cy="81288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3113280" y="3579840"/>
                <a:ext cx="460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3113280" y="3686040"/>
                <a:ext cx="460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3113280" y="3792240"/>
                <a:ext cx="460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3113280" y="3898080"/>
                <a:ext cx="460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3391560" y="4110120"/>
                <a:ext cx="153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2" name=""/>
          <p:cNvGrpSpPr/>
          <p:nvPr/>
        </p:nvGrpSpPr>
        <p:grpSpPr>
          <a:xfrm>
            <a:off x="1697040" y="3342240"/>
            <a:ext cx="912240" cy="1396800"/>
            <a:chOff x="1697040" y="3342240"/>
            <a:chExt cx="912240" cy="1396800"/>
          </a:xfrm>
        </p:grpSpPr>
        <p:sp>
          <p:nvSpPr>
            <p:cNvPr id="123" name=""/>
            <p:cNvSpPr/>
            <p:nvPr/>
          </p:nvSpPr>
          <p:spPr>
            <a:xfrm>
              <a:off x="1697040" y="4492800"/>
              <a:ext cx="912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gereedschap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4" name=""/>
            <p:cNvGrpSpPr/>
            <p:nvPr/>
          </p:nvGrpSpPr>
          <p:grpSpPr>
            <a:xfrm>
              <a:off x="1753200" y="3342240"/>
              <a:ext cx="835920" cy="995400"/>
              <a:chOff x="1753200" y="3342240"/>
              <a:chExt cx="835920" cy="995400"/>
            </a:xfrm>
          </p:grpSpPr>
          <p:sp>
            <p:nvSpPr>
              <p:cNvPr id="125" name=""/>
              <p:cNvSpPr/>
              <p:nvPr/>
            </p:nvSpPr>
            <p:spPr>
              <a:xfrm flipH="1">
                <a:off x="1991160" y="3505320"/>
                <a:ext cx="334080" cy="780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flipV="1">
                <a:off x="1891440" y="3505680"/>
                <a:ext cx="378720" cy="510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1753200" y="3416400"/>
                <a:ext cx="242280" cy="179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8607600">
                <a:off x="2198880" y="3970440"/>
                <a:ext cx="313920" cy="303480"/>
              </a:xfrm>
              <a:custGeom>
                <a:avLst/>
                <a:gdLst/>
                <a:ahLst/>
                <a:rect l="l" t="t" r="r" b="b"/>
                <a:pathLst>
                  <a:path w="363" h="499">
                    <a:moveTo>
                      <a:pt x="0" y="499"/>
                    </a:moveTo>
                    <a:lnTo>
                      <a:pt x="46" y="90"/>
                    </a:lnTo>
                    <a:cubicBezTo>
                      <a:pt x="76" y="7"/>
                      <a:pt x="137" y="0"/>
                      <a:pt x="182" y="0"/>
                    </a:cubicBezTo>
                    <a:cubicBezTo>
                      <a:pt x="227" y="0"/>
                      <a:pt x="288" y="7"/>
                      <a:pt x="318" y="90"/>
                    </a:cubicBezTo>
                    <a:lnTo>
                      <a:pt x="363" y="499"/>
                    </a:lnTo>
                    <a:lnTo>
                      <a:pt x="0" y="499"/>
                    </a:lnTo>
                    <a:close/>
                  </a:path>
                </a:pathLst>
              </a:custGeom>
              <a:solidFill>
                <a:srgbClr val="ffffff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V="1" rot="6793800">
                <a:off x="2250720" y="3248640"/>
                <a:ext cx="141480" cy="5220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0" name=""/>
          <p:cNvGrpSpPr/>
          <p:nvPr/>
        </p:nvGrpSpPr>
        <p:grpSpPr>
          <a:xfrm>
            <a:off x="5573880" y="3792600"/>
            <a:ext cx="803160" cy="946440"/>
            <a:chOff x="5573880" y="3792600"/>
            <a:chExt cx="803160" cy="946440"/>
          </a:xfrm>
        </p:grpSpPr>
        <p:grpSp>
          <p:nvGrpSpPr>
            <p:cNvPr id="131" name=""/>
            <p:cNvGrpSpPr/>
            <p:nvPr/>
          </p:nvGrpSpPr>
          <p:grpSpPr>
            <a:xfrm>
              <a:off x="5573880" y="3792600"/>
              <a:ext cx="803160" cy="495360"/>
              <a:chOff x="5573880" y="3792600"/>
              <a:chExt cx="803160" cy="495360"/>
            </a:xfrm>
          </p:grpSpPr>
          <p:sp>
            <p:nvSpPr>
              <p:cNvPr id="132" name=""/>
              <p:cNvSpPr/>
              <p:nvPr/>
            </p:nvSpPr>
            <p:spPr>
              <a:xfrm>
                <a:off x="5573880" y="3792600"/>
                <a:ext cx="803160" cy="378360"/>
              </a:xfrm>
              <a:custGeom>
                <a:avLst/>
                <a:gdLst>
                  <a:gd name="textAreaLeft" fmla="*/ 113760 w 803160"/>
                  <a:gd name="textAreaRight" fmla="*/ 689400 w 803160"/>
                  <a:gd name="textAreaTop" fmla="*/ 53640 h 378360"/>
                  <a:gd name="textAreaBottom" fmla="*/ 324720 h 378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9231" y="21600"/>
                    </a:lnTo>
                    <a:lnTo>
                      <a:pt x="2369" y="21600"/>
                    </a:lnTo>
                    <a:close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5740200" y="4083480"/>
                <a:ext cx="194040" cy="2044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6017760" y="4083480"/>
                <a:ext cx="194040" cy="2044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5" name=""/>
            <p:cNvSpPr/>
            <p:nvPr/>
          </p:nvSpPr>
          <p:spPr>
            <a:xfrm>
              <a:off x="5681520" y="4492800"/>
              <a:ext cx="587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ijnka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6622920" y="3968640"/>
            <a:ext cx="880920" cy="770400"/>
            <a:chOff x="6622920" y="3968640"/>
            <a:chExt cx="880920" cy="770400"/>
          </a:xfrm>
        </p:grpSpPr>
        <p:sp>
          <p:nvSpPr>
            <p:cNvPr id="137" name=""/>
            <p:cNvSpPr/>
            <p:nvPr/>
          </p:nvSpPr>
          <p:spPr>
            <a:xfrm>
              <a:off x="6716880" y="4492800"/>
              <a:ext cx="692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ynamie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8" name=""/>
            <p:cNvGrpSpPr/>
            <p:nvPr/>
          </p:nvGrpSpPr>
          <p:grpSpPr>
            <a:xfrm>
              <a:off x="6622920" y="3968640"/>
              <a:ext cx="880920" cy="220320"/>
              <a:chOff x="6622920" y="3968640"/>
              <a:chExt cx="880920" cy="220320"/>
            </a:xfrm>
          </p:grpSpPr>
          <p:sp>
            <p:nvSpPr>
              <p:cNvPr id="139" name=""/>
              <p:cNvSpPr/>
              <p:nvPr/>
            </p:nvSpPr>
            <p:spPr>
              <a:xfrm>
                <a:off x="6622920" y="3968640"/>
                <a:ext cx="556560" cy="14220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7177680" y="4004640"/>
                <a:ext cx="252000" cy="106200"/>
              </a:xfrm>
              <a:custGeom>
                <a:avLst/>
                <a:gdLst/>
                <a:ahLst/>
                <a:rect l="l" t="t" r="r" b="b"/>
                <a:pathLst>
                  <a:path w="680" h="138">
                    <a:moveTo>
                      <a:pt x="0" y="63"/>
                    </a:moveTo>
                    <a:cubicBezTo>
                      <a:pt x="26" y="24"/>
                      <a:pt x="53" y="21"/>
                      <a:pt x="96" y="7"/>
                    </a:cubicBezTo>
                    <a:cubicBezTo>
                      <a:pt x="131" y="10"/>
                      <a:pt x="168" y="0"/>
                      <a:pt x="200" y="15"/>
                    </a:cubicBezTo>
                    <a:cubicBezTo>
                      <a:pt x="215" y="22"/>
                      <a:pt x="207" y="49"/>
                      <a:pt x="216" y="63"/>
                    </a:cubicBezTo>
                    <a:cubicBezTo>
                      <a:pt x="243" y="103"/>
                      <a:pt x="323" y="99"/>
                      <a:pt x="360" y="103"/>
                    </a:cubicBezTo>
                    <a:cubicBezTo>
                      <a:pt x="413" y="138"/>
                      <a:pt x="604" y="135"/>
                      <a:pt x="680" y="135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 flipH="1" flipV="1">
                <a:off x="7372440" y="4027680"/>
                <a:ext cx="42120" cy="52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 flipV="1">
                <a:off x="7440840" y="4006440"/>
                <a:ext cx="27360" cy="70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 flipH="1">
                <a:off x="7365240" y="4134600"/>
                <a:ext cx="40320" cy="47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439040" y="4136760"/>
                <a:ext cx="29160" cy="52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7448040" y="4108680"/>
                <a:ext cx="55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6" name=""/>
          <p:cNvGrpSpPr/>
          <p:nvPr/>
        </p:nvGrpSpPr>
        <p:grpSpPr>
          <a:xfrm>
            <a:off x="7749720" y="3817800"/>
            <a:ext cx="772200" cy="920880"/>
            <a:chOff x="7749720" y="3817800"/>
            <a:chExt cx="772200" cy="920880"/>
          </a:xfrm>
        </p:grpSpPr>
        <p:grpSp>
          <p:nvGrpSpPr>
            <p:cNvPr id="147" name=""/>
            <p:cNvGrpSpPr/>
            <p:nvPr/>
          </p:nvGrpSpPr>
          <p:grpSpPr>
            <a:xfrm>
              <a:off x="8021880" y="3817800"/>
              <a:ext cx="228600" cy="495360"/>
              <a:chOff x="8021880" y="3817800"/>
              <a:chExt cx="228600" cy="495360"/>
            </a:xfrm>
          </p:grpSpPr>
          <p:sp>
            <p:nvSpPr>
              <p:cNvPr id="148" name=""/>
              <p:cNvSpPr/>
              <p:nvPr/>
            </p:nvSpPr>
            <p:spPr>
              <a:xfrm>
                <a:off x="8038080" y="3817800"/>
                <a:ext cx="196560" cy="14112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8136360" y="3958920"/>
                <a:ext cx="0" cy="236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0" name=""/>
              <p:cNvGrpSpPr/>
              <p:nvPr/>
            </p:nvGrpSpPr>
            <p:grpSpPr>
              <a:xfrm>
                <a:off x="8037720" y="4195440"/>
                <a:ext cx="196920" cy="117720"/>
                <a:chOff x="8037720" y="4195440"/>
                <a:chExt cx="196920" cy="117720"/>
              </a:xfrm>
            </p:grpSpPr>
            <p:sp>
              <p:nvSpPr>
                <p:cNvPr id="151" name=""/>
                <p:cNvSpPr/>
                <p:nvPr/>
              </p:nvSpPr>
              <p:spPr>
                <a:xfrm flipH="1">
                  <a:off x="8037720" y="4195440"/>
                  <a:ext cx="98280" cy="1177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8136360" y="4195440"/>
                  <a:ext cx="98280" cy="1177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" name=""/>
              <p:cNvSpPr/>
              <p:nvPr/>
            </p:nvSpPr>
            <p:spPr>
              <a:xfrm>
                <a:off x="8021880" y="405432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4" name=""/>
            <p:cNvSpPr/>
            <p:nvPr/>
          </p:nvSpPr>
          <p:spPr>
            <a:xfrm>
              <a:off x="7749720" y="4492440"/>
              <a:ext cx="772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ankrach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8769240" y="3686040"/>
            <a:ext cx="689040" cy="1052640"/>
            <a:chOff x="8769240" y="3686040"/>
            <a:chExt cx="689040" cy="1052640"/>
          </a:xfrm>
        </p:grpSpPr>
        <p:grpSp>
          <p:nvGrpSpPr>
            <p:cNvPr id="156" name=""/>
            <p:cNvGrpSpPr/>
            <p:nvPr/>
          </p:nvGrpSpPr>
          <p:grpSpPr>
            <a:xfrm>
              <a:off x="8769240" y="3686040"/>
              <a:ext cx="689040" cy="671400"/>
              <a:chOff x="8769240" y="3686040"/>
              <a:chExt cx="689040" cy="671400"/>
            </a:xfrm>
          </p:grpSpPr>
          <p:sp>
            <p:nvSpPr>
              <p:cNvPr id="157" name=""/>
              <p:cNvSpPr/>
              <p:nvPr/>
            </p:nvSpPr>
            <p:spPr>
              <a:xfrm>
                <a:off x="8845560" y="3757320"/>
                <a:ext cx="76320" cy="60012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9306000" y="3757320"/>
                <a:ext cx="76320" cy="60012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769240" y="3686040"/>
                <a:ext cx="689040" cy="7128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0" name=""/>
            <p:cNvSpPr/>
            <p:nvPr/>
          </p:nvSpPr>
          <p:spPr>
            <a:xfrm>
              <a:off x="8798760" y="4492440"/>
              <a:ext cx="630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tuthou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550080" y="3784680"/>
            <a:ext cx="902160" cy="954360"/>
            <a:chOff x="550080" y="3784680"/>
            <a:chExt cx="902160" cy="954360"/>
          </a:xfrm>
        </p:grpSpPr>
        <p:grpSp>
          <p:nvGrpSpPr>
            <p:cNvPr id="162" name=""/>
            <p:cNvGrpSpPr/>
            <p:nvPr/>
          </p:nvGrpSpPr>
          <p:grpSpPr>
            <a:xfrm>
              <a:off x="550080" y="3784680"/>
              <a:ext cx="902160" cy="468000"/>
              <a:chOff x="550080" y="3784680"/>
              <a:chExt cx="902160" cy="468000"/>
            </a:xfrm>
          </p:grpSpPr>
          <p:sp>
            <p:nvSpPr>
              <p:cNvPr id="163" name=""/>
              <p:cNvSpPr/>
              <p:nvPr/>
            </p:nvSpPr>
            <p:spPr>
              <a:xfrm>
                <a:off x="1305000" y="3937680"/>
                <a:ext cx="147240" cy="72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rot="20024400">
                <a:off x="568080" y="3792960"/>
                <a:ext cx="58320" cy="9648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0" bIns="-14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19000" y="4059000"/>
                <a:ext cx="441000" cy="193680"/>
                <a:chOff x="819000" y="4059000"/>
                <a:chExt cx="441000" cy="19368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19000" y="4059000"/>
                  <a:ext cx="58320" cy="19368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907200" y="4059000"/>
                  <a:ext cx="58320" cy="19368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1113120" y="4059000"/>
                  <a:ext cx="58320" cy="19368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1201680" y="4059000"/>
                  <a:ext cx="58320" cy="19368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0" name=""/>
              <p:cNvSpPr/>
              <p:nvPr/>
            </p:nvSpPr>
            <p:spPr>
              <a:xfrm>
                <a:off x="744840" y="3792600"/>
                <a:ext cx="589320" cy="36324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568440" y="3817080"/>
                <a:ext cx="264960" cy="21780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 rot="1771200">
                <a:off x="774360" y="3792600"/>
                <a:ext cx="58320" cy="9648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0" bIns="-14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685800" y="3914280"/>
                <a:ext cx="29160" cy="237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597600" y="3889800"/>
                <a:ext cx="29160" cy="237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5" name=""/>
            <p:cNvSpPr/>
            <p:nvPr/>
          </p:nvSpPr>
          <p:spPr>
            <a:xfrm>
              <a:off x="770040" y="4492800"/>
              <a:ext cx="482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biz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4080600" y="3435480"/>
            <a:ext cx="1247400" cy="1303560"/>
            <a:chOff x="4080600" y="3435480"/>
            <a:chExt cx="1247400" cy="1303560"/>
          </a:xfrm>
        </p:grpSpPr>
        <p:sp>
          <p:nvSpPr>
            <p:cNvPr id="177" name=""/>
            <p:cNvSpPr/>
            <p:nvPr/>
          </p:nvSpPr>
          <p:spPr>
            <a:xfrm>
              <a:off x="4080600" y="4492800"/>
              <a:ext cx="1247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andelsvergunning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8" name=""/>
            <p:cNvGrpSpPr/>
            <p:nvPr/>
          </p:nvGrpSpPr>
          <p:grpSpPr>
            <a:xfrm>
              <a:off x="4378320" y="3435480"/>
              <a:ext cx="650880" cy="955800"/>
              <a:chOff x="4378320" y="3435480"/>
              <a:chExt cx="650880" cy="955800"/>
            </a:xfrm>
          </p:grpSpPr>
          <p:sp>
            <p:nvSpPr>
              <p:cNvPr id="179" name=""/>
              <p:cNvSpPr/>
              <p:nvPr/>
            </p:nvSpPr>
            <p:spPr>
              <a:xfrm>
                <a:off x="4731840" y="4143960"/>
                <a:ext cx="211680" cy="247320"/>
              </a:xfrm>
              <a:custGeom>
                <a:avLst/>
                <a:gdLst/>
                <a:ahLst/>
                <a:rect l="l" t="t" r="r" b="b"/>
                <a:pathLst>
                  <a:path w="272" h="317">
                    <a:moveTo>
                      <a:pt x="0" y="0"/>
                    </a:moveTo>
                    <a:lnTo>
                      <a:pt x="0" y="317"/>
                    </a:lnTo>
                    <a:lnTo>
                      <a:pt x="136" y="226"/>
                    </a:lnTo>
                    <a:lnTo>
                      <a:pt x="272" y="317"/>
                    </a:lnTo>
                    <a:lnTo>
                      <a:pt x="27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4378320" y="3435480"/>
                <a:ext cx="650880" cy="74268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4473720" y="3824640"/>
                <a:ext cx="4593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4473720" y="3930840"/>
                <a:ext cx="4593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4473720" y="3718440"/>
                <a:ext cx="4593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4731840" y="4037760"/>
                <a:ext cx="211680" cy="21204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5" name=""/>
          <p:cNvGrpSpPr/>
          <p:nvPr/>
        </p:nvGrpSpPr>
        <p:grpSpPr>
          <a:xfrm>
            <a:off x="-2102400" y="-1797120"/>
            <a:ext cx="772200" cy="920880"/>
            <a:chOff x="-2102400" y="-1797120"/>
            <a:chExt cx="772200" cy="920880"/>
          </a:xfrm>
        </p:grpSpPr>
        <p:grpSp>
          <p:nvGrpSpPr>
            <p:cNvPr id="186" name=""/>
            <p:cNvGrpSpPr/>
            <p:nvPr/>
          </p:nvGrpSpPr>
          <p:grpSpPr>
            <a:xfrm>
              <a:off x="-1830240" y="-1797120"/>
              <a:ext cx="228600" cy="495360"/>
              <a:chOff x="-1830240" y="-1797120"/>
              <a:chExt cx="228600" cy="495360"/>
            </a:xfrm>
          </p:grpSpPr>
          <p:sp>
            <p:nvSpPr>
              <p:cNvPr id="187" name=""/>
              <p:cNvSpPr/>
              <p:nvPr/>
            </p:nvSpPr>
            <p:spPr>
              <a:xfrm>
                <a:off x="-1814040" y="-1797120"/>
                <a:ext cx="196560" cy="14112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-1715760" y="-1656000"/>
                <a:ext cx="0" cy="236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9" name=""/>
              <p:cNvGrpSpPr/>
              <p:nvPr/>
            </p:nvGrpSpPr>
            <p:grpSpPr>
              <a:xfrm>
                <a:off x="-1814400" y="-1419480"/>
                <a:ext cx="197280" cy="117720"/>
                <a:chOff x="-1814400" y="-1419480"/>
                <a:chExt cx="197280" cy="117720"/>
              </a:xfrm>
            </p:grpSpPr>
            <p:sp>
              <p:nvSpPr>
                <p:cNvPr id="190" name=""/>
                <p:cNvSpPr/>
                <p:nvPr/>
              </p:nvSpPr>
              <p:spPr>
                <a:xfrm flipH="1">
                  <a:off x="-1814400" y="-1419480"/>
                  <a:ext cx="98280" cy="1177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-1715400" y="-1419480"/>
                  <a:ext cx="98280" cy="1177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2" name=""/>
              <p:cNvSpPr/>
              <p:nvPr/>
            </p:nvSpPr>
            <p:spPr>
              <a:xfrm>
                <a:off x="-1830240" y="-156060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3" name=""/>
            <p:cNvSpPr/>
            <p:nvPr/>
          </p:nvSpPr>
          <p:spPr>
            <a:xfrm>
              <a:off x="-2102400" y="-1122480"/>
              <a:ext cx="772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ankrach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" name=""/>
          <p:cNvGrpSpPr/>
          <p:nvPr/>
        </p:nvGrpSpPr>
        <p:grpSpPr>
          <a:xfrm>
            <a:off x="491040" y="743400"/>
            <a:ext cx="9023040" cy="1396800"/>
            <a:chOff x="491040" y="743400"/>
            <a:chExt cx="9023040" cy="1396800"/>
          </a:xfrm>
        </p:grpSpPr>
        <p:grpSp>
          <p:nvGrpSpPr>
            <p:cNvPr id="195" name=""/>
            <p:cNvGrpSpPr/>
            <p:nvPr/>
          </p:nvGrpSpPr>
          <p:grpSpPr>
            <a:xfrm>
              <a:off x="491040" y="839880"/>
              <a:ext cx="974880" cy="1300320"/>
              <a:chOff x="491040" y="839880"/>
              <a:chExt cx="974880" cy="1300320"/>
            </a:xfrm>
          </p:grpSpPr>
          <p:sp>
            <p:nvSpPr>
              <p:cNvPr id="196" name=""/>
              <p:cNvSpPr/>
              <p:nvPr/>
            </p:nvSpPr>
            <p:spPr>
              <a:xfrm>
                <a:off x="491040" y="1893960"/>
                <a:ext cx="974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ijnconcessi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7" name=""/>
              <p:cNvGrpSpPr/>
              <p:nvPr/>
            </p:nvGrpSpPr>
            <p:grpSpPr>
              <a:xfrm>
                <a:off x="652320" y="839880"/>
                <a:ext cx="652680" cy="812880"/>
                <a:chOff x="652320" y="839880"/>
                <a:chExt cx="652680" cy="812880"/>
              </a:xfrm>
            </p:grpSpPr>
            <p:sp>
              <p:nvSpPr>
                <p:cNvPr id="198" name=""/>
                <p:cNvSpPr/>
                <p:nvPr/>
              </p:nvSpPr>
              <p:spPr>
                <a:xfrm>
                  <a:off x="652320" y="839880"/>
                  <a:ext cx="652680" cy="81288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748080" y="981360"/>
                  <a:ext cx="4611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748080" y="1087560"/>
                  <a:ext cx="4611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748080" y="1193760"/>
                  <a:ext cx="4611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748080" y="1299600"/>
                  <a:ext cx="4611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1026720" y="1511640"/>
                  <a:ext cx="1537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04" name=""/>
            <p:cNvGrpSpPr/>
            <p:nvPr/>
          </p:nvGrpSpPr>
          <p:grpSpPr>
            <a:xfrm>
              <a:off x="1713600" y="1185840"/>
              <a:ext cx="902160" cy="954360"/>
              <a:chOff x="1713600" y="1185840"/>
              <a:chExt cx="902160" cy="954360"/>
            </a:xfrm>
          </p:grpSpPr>
          <p:grpSp>
            <p:nvGrpSpPr>
              <p:cNvPr id="205" name=""/>
              <p:cNvGrpSpPr/>
              <p:nvPr/>
            </p:nvGrpSpPr>
            <p:grpSpPr>
              <a:xfrm>
                <a:off x="1713600" y="1185840"/>
                <a:ext cx="902160" cy="468000"/>
                <a:chOff x="1713600" y="1185840"/>
                <a:chExt cx="902160" cy="46800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2468520" y="1338840"/>
                  <a:ext cx="147240" cy="723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 rot="20024400">
                  <a:off x="1731600" y="1194120"/>
                  <a:ext cx="58320" cy="964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400" bIns="-14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08" name=""/>
                <p:cNvGrpSpPr/>
                <p:nvPr/>
              </p:nvGrpSpPr>
              <p:grpSpPr>
                <a:xfrm>
                  <a:off x="1982520" y="1460160"/>
                  <a:ext cx="441000" cy="193680"/>
                  <a:chOff x="1982520" y="1460160"/>
                  <a:chExt cx="441000" cy="193680"/>
                </a:xfrm>
              </p:grpSpPr>
              <p:sp>
                <p:nvSpPr>
                  <p:cNvPr id="209" name=""/>
                  <p:cNvSpPr/>
                  <p:nvPr/>
                </p:nvSpPr>
                <p:spPr>
                  <a:xfrm>
                    <a:off x="1982520" y="1460160"/>
                    <a:ext cx="58320" cy="19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" name=""/>
                  <p:cNvSpPr/>
                  <p:nvPr/>
                </p:nvSpPr>
                <p:spPr>
                  <a:xfrm>
                    <a:off x="2070720" y="1460160"/>
                    <a:ext cx="58320" cy="19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1" name=""/>
                  <p:cNvSpPr/>
                  <p:nvPr/>
                </p:nvSpPr>
                <p:spPr>
                  <a:xfrm>
                    <a:off x="2276640" y="1460160"/>
                    <a:ext cx="58320" cy="19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2365200" y="1460160"/>
                    <a:ext cx="58320" cy="19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3" name=""/>
                <p:cNvSpPr/>
                <p:nvPr/>
              </p:nvSpPr>
              <p:spPr>
                <a:xfrm>
                  <a:off x="1908360" y="1193760"/>
                  <a:ext cx="589320" cy="363240"/>
                </a:xfrm>
                <a:prstGeom prst="ellipse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1731960" y="1218240"/>
                  <a:ext cx="264960" cy="217800"/>
                </a:xfrm>
                <a:prstGeom prst="ellipse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 rot="1771200">
                  <a:off x="1937880" y="1193760"/>
                  <a:ext cx="58320" cy="964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400" bIns="-14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1849320" y="1315440"/>
                  <a:ext cx="29160" cy="237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520" bIns="-29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1761120" y="1290960"/>
                  <a:ext cx="29160" cy="237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520" bIns="-29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8" name=""/>
              <p:cNvSpPr/>
              <p:nvPr/>
            </p:nvSpPr>
            <p:spPr>
              <a:xfrm>
                <a:off x="1933560" y="1893960"/>
                <a:ext cx="4824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bizon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9" name=""/>
            <p:cNvGrpSpPr/>
            <p:nvPr/>
          </p:nvGrpSpPr>
          <p:grpSpPr>
            <a:xfrm>
              <a:off x="2882520" y="1219320"/>
              <a:ext cx="772200" cy="920880"/>
              <a:chOff x="2882520" y="1219320"/>
              <a:chExt cx="772200" cy="92088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3154680" y="1219320"/>
                <a:ext cx="228600" cy="495360"/>
                <a:chOff x="3154680" y="1219320"/>
                <a:chExt cx="228600" cy="495360"/>
              </a:xfrm>
            </p:grpSpPr>
            <p:sp>
              <p:nvSpPr>
                <p:cNvPr id="221" name=""/>
                <p:cNvSpPr/>
                <p:nvPr/>
              </p:nvSpPr>
              <p:spPr>
                <a:xfrm>
                  <a:off x="3170880" y="1219320"/>
                  <a:ext cx="196560" cy="141120"/>
                </a:xfrm>
                <a:prstGeom prst="ellipse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3269160" y="1360440"/>
                  <a:ext cx="0" cy="2365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23" name=""/>
                <p:cNvGrpSpPr/>
                <p:nvPr/>
              </p:nvGrpSpPr>
              <p:grpSpPr>
                <a:xfrm>
                  <a:off x="3170520" y="1596960"/>
                  <a:ext cx="196920" cy="117720"/>
                  <a:chOff x="3170520" y="1596960"/>
                  <a:chExt cx="196920" cy="117720"/>
                </a:xfrm>
              </p:grpSpPr>
              <p:sp>
                <p:nvSpPr>
                  <p:cNvPr id="224" name=""/>
                  <p:cNvSpPr/>
                  <p:nvPr/>
                </p:nvSpPr>
                <p:spPr>
                  <a:xfrm flipH="1">
                    <a:off x="3170520" y="1596960"/>
                    <a:ext cx="98280" cy="1177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" name=""/>
                  <p:cNvSpPr/>
                  <p:nvPr/>
                </p:nvSpPr>
                <p:spPr>
                  <a:xfrm>
                    <a:off x="3269160" y="1596960"/>
                    <a:ext cx="98280" cy="1177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6" name=""/>
                <p:cNvSpPr/>
                <p:nvPr/>
              </p:nvSpPr>
              <p:spPr>
                <a:xfrm>
                  <a:off x="3154680" y="1455840"/>
                  <a:ext cx="2286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2882520" y="1893960"/>
                <a:ext cx="7722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ankrach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8" name=""/>
            <p:cNvGrpSpPr/>
            <p:nvPr/>
          </p:nvGrpSpPr>
          <p:grpSpPr>
            <a:xfrm>
              <a:off x="3921120" y="1087560"/>
              <a:ext cx="689040" cy="1052640"/>
              <a:chOff x="3921120" y="1087560"/>
              <a:chExt cx="689040" cy="1052640"/>
            </a:xfrm>
          </p:grpSpPr>
          <p:grpSp>
            <p:nvGrpSpPr>
              <p:cNvPr id="229" name=""/>
              <p:cNvGrpSpPr/>
              <p:nvPr/>
            </p:nvGrpSpPr>
            <p:grpSpPr>
              <a:xfrm>
                <a:off x="3921120" y="1087560"/>
                <a:ext cx="689040" cy="671400"/>
                <a:chOff x="3921120" y="1087560"/>
                <a:chExt cx="689040" cy="671400"/>
              </a:xfrm>
            </p:grpSpPr>
            <p:sp>
              <p:nvSpPr>
                <p:cNvPr id="230" name=""/>
                <p:cNvSpPr/>
                <p:nvPr/>
              </p:nvSpPr>
              <p:spPr>
                <a:xfrm>
                  <a:off x="3997440" y="1158840"/>
                  <a:ext cx="76320" cy="60012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4457880" y="1158840"/>
                  <a:ext cx="76320" cy="60012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3921120" y="1087560"/>
                  <a:ext cx="689040" cy="7128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480" bIns="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3" name=""/>
              <p:cNvSpPr/>
              <p:nvPr/>
            </p:nvSpPr>
            <p:spPr>
              <a:xfrm>
                <a:off x="3950640" y="1893960"/>
                <a:ext cx="630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stuthou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4873680" y="743400"/>
              <a:ext cx="912240" cy="1396800"/>
              <a:chOff x="4873680" y="743400"/>
              <a:chExt cx="912240" cy="1396800"/>
            </a:xfrm>
          </p:grpSpPr>
          <p:sp>
            <p:nvSpPr>
              <p:cNvPr id="235" name=""/>
              <p:cNvSpPr/>
              <p:nvPr/>
            </p:nvSpPr>
            <p:spPr>
              <a:xfrm>
                <a:off x="4873680" y="1893960"/>
                <a:ext cx="9122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ereedschap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6" name=""/>
              <p:cNvGrpSpPr/>
              <p:nvPr/>
            </p:nvGrpSpPr>
            <p:grpSpPr>
              <a:xfrm>
                <a:off x="4929840" y="743400"/>
                <a:ext cx="835920" cy="995400"/>
                <a:chOff x="4929840" y="743400"/>
                <a:chExt cx="835920" cy="995400"/>
              </a:xfrm>
            </p:grpSpPr>
            <p:sp>
              <p:nvSpPr>
                <p:cNvPr id="237" name=""/>
                <p:cNvSpPr/>
                <p:nvPr/>
              </p:nvSpPr>
              <p:spPr>
                <a:xfrm flipH="1">
                  <a:off x="5167800" y="906480"/>
                  <a:ext cx="334080" cy="7801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 flipH="1" flipV="1">
                  <a:off x="5068080" y="906840"/>
                  <a:ext cx="378720" cy="5104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 flipH="1">
                  <a:off x="4929840" y="817560"/>
                  <a:ext cx="242280" cy="179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8607600">
                  <a:off x="5375520" y="1371600"/>
                  <a:ext cx="313920" cy="303480"/>
                </a:xfrm>
                <a:custGeom>
                  <a:avLst/>
                  <a:gdLst/>
                  <a:ahLst/>
                  <a:rect l="l" t="t" r="r" b="b"/>
                  <a:pathLst>
                    <a:path w="363" h="499">
                      <a:moveTo>
                        <a:pt x="0" y="499"/>
                      </a:moveTo>
                      <a:lnTo>
                        <a:pt x="46" y="90"/>
                      </a:lnTo>
                      <a:cubicBezTo>
                        <a:pt x="76" y="7"/>
                        <a:pt x="137" y="0"/>
                        <a:pt x="182" y="0"/>
                      </a:cubicBezTo>
                      <a:cubicBezTo>
                        <a:pt x="227" y="0"/>
                        <a:pt x="288" y="7"/>
                        <a:pt x="318" y="90"/>
                      </a:cubicBezTo>
                      <a:lnTo>
                        <a:pt x="363" y="499"/>
                      </a:lnTo>
                      <a:lnTo>
                        <a:pt x="0" y="499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flipV="1" rot="6793800">
                  <a:off x="5427360" y="649800"/>
                  <a:ext cx="141480" cy="522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200" y="1938"/>
                        <a:pt x="10800" y="5080"/>
                        <a:pt x="10800" y="10800"/>
                      </a:cubicBezTo>
                      <a:cubicBezTo>
                        <a:pt x="10800" y="16520"/>
                        <a:pt x="16200" y="19662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051600" y="1370160"/>
              <a:ext cx="880920" cy="770040"/>
              <a:chOff x="6051600" y="1370160"/>
              <a:chExt cx="880920" cy="770040"/>
            </a:xfrm>
          </p:grpSpPr>
          <p:sp>
            <p:nvSpPr>
              <p:cNvPr id="243" name=""/>
              <p:cNvSpPr/>
              <p:nvPr/>
            </p:nvSpPr>
            <p:spPr>
              <a:xfrm>
                <a:off x="6145560" y="1893960"/>
                <a:ext cx="692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ynamie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44" name=""/>
              <p:cNvGrpSpPr/>
              <p:nvPr/>
            </p:nvGrpSpPr>
            <p:grpSpPr>
              <a:xfrm>
                <a:off x="6051600" y="1370160"/>
                <a:ext cx="880920" cy="220320"/>
                <a:chOff x="6051600" y="1370160"/>
                <a:chExt cx="880920" cy="220320"/>
              </a:xfrm>
            </p:grpSpPr>
            <p:sp>
              <p:nvSpPr>
                <p:cNvPr id="245" name=""/>
                <p:cNvSpPr/>
                <p:nvPr/>
              </p:nvSpPr>
              <p:spPr>
                <a:xfrm>
                  <a:off x="6051600" y="1370160"/>
                  <a:ext cx="556560" cy="14220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6606360" y="1406160"/>
                  <a:ext cx="252000" cy="106200"/>
                </a:xfrm>
                <a:custGeom>
                  <a:avLst/>
                  <a:gdLst/>
                  <a:ahLst/>
                  <a:rect l="l" t="t" r="r" b="b"/>
                  <a:pathLst>
                    <a:path w="680" h="138">
                      <a:moveTo>
                        <a:pt x="0" y="63"/>
                      </a:moveTo>
                      <a:cubicBezTo>
                        <a:pt x="26" y="24"/>
                        <a:pt x="53" y="21"/>
                        <a:pt x="96" y="7"/>
                      </a:cubicBezTo>
                      <a:cubicBezTo>
                        <a:pt x="131" y="10"/>
                        <a:pt x="168" y="0"/>
                        <a:pt x="200" y="15"/>
                      </a:cubicBezTo>
                      <a:cubicBezTo>
                        <a:pt x="215" y="22"/>
                        <a:pt x="207" y="49"/>
                        <a:pt x="216" y="63"/>
                      </a:cubicBezTo>
                      <a:cubicBezTo>
                        <a:pt x="243" y="103"/>
                        <a:pt x="323" y="99"/>
                        <a:pt x="360" y="103"/>
                      </a:cubicBezTo>
                      <a:cubicBezTo>
                        <a:pt x="413" y="138"/>
                        <a:pt x="604" y="135"/>
                        <a:pt x="680" y="135"/>
                      </a:cubicBez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 flipH="1" flipV="1">
                  <a:off x="6801120" y="1429200"/>
                  <a:ext cx="42120" cy="52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 flipV="1">
                  <a:off x="6869520" y="1407960"/>
                  <a:ext cx="27360" cy="70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flipH="1">
                  <a:off x="6793920" y="1535760"/>
                  <a:ext cx="40320" cy="47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6867720" y="1538280"/>
                  <a:ext cx="29160" cy="52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6876720" y="1509840"/>
                  <a:ext cx="558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2" name=""/>
            <p:cNvGrpSpPr/>
            <p:nvPr/>
          </p:nvGrpSpPr>
          <p:grpSpPr>
            <a:xfrm>
              <a:off x="7197840" y="1193760"/>
              <a:ext cx="803160" cy="946440"/>
              <a:chOff x="7197840" y="1193760"/>
              <a:chExt cx="803160" cy="946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7197840" y="1193760"/>
                <a:ext cx="803160" cy="495360"/>
                <a:chOff x="7197840" y="1193760"/>
                <a:chExt cx="803160" cy="495360"/>
              </a:xfrm>
            </p:grpSpPr>
            <p:sp>
              <p:nvSpPr>
                <p:cNvPr id="254" name=""/>
                <p:cNvSpPr/>
                <p:nvPr/>
              </p:nvSpPr>
              <p:spPr>
                <a:xfrm>
                  <a:off x="7197840" y="1193760"/>
                  <a:ext cx="803160" cy="378360"/>
                </a:xfrm>
                <a:custGeom>
                  <a:avLst/>
                  <a:gdLst>
                    <a:gd name="textAreaLeft" fmla="*/ 113760 w 803160"/>
                    <a:gd name="textAreaRight" fmla="*/ 689400 w 803160"/>
                    <a:gd name="textAreaTop" fmla="*/ 53640 h 378360"/>
                    <a:gd name="textAreaBottom" fmla="*/ 324720 h 3783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231" y="21600"/>
                      </a:lnTo>
                      <a:lnTo>
                        <a:pt x="2369" y="21600"/>
                      </a:lnTo>
                      <a:close/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>
                  <a:off x="7364160" y="1484640"/>
                  <a:ext cx="194040" cy="204480"/>
                </a:xfrm>
                <a:prstGeom prst="ellipse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7641720" y="1484640"/>
                  <a:ext cx="194040" cy="204480"/>
                </a:xfrm>
                <a:prstGeom prst="ellipse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7" name=""/>
              <p:cNvSpPr/>
              <p:nvPr/>
            </p:nvSpPr>
            <p:spPr>
              <a:xfrm>
                <a:off x="7305480" y="1893960"/>
                <a:ext cx="5875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ijnkar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8" name=""/>
            <p:cNvGrpSpPr/>
            <p:nvPr/>
          </p:nvGrpSpPr>
          <p:grpSpPr>
            <a:xfrm>
              <a:off x="8266680" y="836640"/>
              <a:ext cx="1247400" cy="1303560"/>
              <a:chOff x="8266680" y="836640"/>
              <a:chExt cx="1247400" cy="1303560"/>
            </a:xfrm>
          </p:grpSpPr>
          <p:sp>
            <p:nvSpPr>
              <p:cNvPr id="259" name=""/>
              <p:cNvSpPr/>
              <p:nvPr/>
            </p:nvSpPr>
            <p:spPr>
              <a:xfrm>
                <a:off x="8266680" y="1893960"/>
                <a:ext cx="12474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handelsvergunning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0" name=""/>
              <p:cNvGrpSpPr/>
              <p:nvPr/>
            </p:nvGrpSpPr>
            <p:grpSpPr>
              <a:xfrm>
                <a:off x="8564400" y="836640"/>
                <a:ext cx="650880" cy="955800"/>
                <a:chOff x="8564400" y="836640"/>
                <a:chExt cx="650880" cy="95580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8917920" y="1545120"/>
                  <a:ext cx="211680" cy="247320"/>
                </a:xfrm>
                <a:custGeom>
                  <a:avLst/>
                  <a:gdLst/>
                  <a:ahLst/>
                  <a:rect l="l" t="t" r="r" b="b"/>
                  <a:pathLst>
                    <a:path w="272" h="317">
                      <a:moveTo>
                        <a:pt x="0" y="0"/>
                      </a:moveTo>
                      <a:lnTo>
                        <a:pt x="0" y="317"/>
                      </a:lnTo>
                      <a:lnTo>
                        <a:pt x="136" y="226"/>
                      </a:lnTo>
                      <a:lnTo>
                        <a:pt x="272" y="317"/>
                      </a:lnTo>
                      <a:lnTo>
                        <a:pt x="27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8564400" y="836640"/>
                  <a:ext cx="650880" cy="74268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8659800" y="1225800"/>
                  <a:ext cx="4593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8659800" y="1332000"/>
                  <a:ext cx="4593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8659800" y="1119600"/>
                  <a:ext cx="4593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8917920" y="1438920"/>
                  <a:ext cx="211680" cy="212040"/>
                </a:xfrm>
                <a:prstGeom prst="ellipse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9T08:08:07Z</dcterms:created>
  <dc:creator>Ruud en Sandra</dc:creator>
  <dc:description/>
  <dc:language>en-US</dc:language>
  <cp:lastModifiedBy>Eelco Last</cp:lastModifiedBy>
  <dcterms:modified xsi:type="dcterms:W3CDTF">2005-08-25T10:49:02Z</dcterms:modified>
  <cp:revision>12</cp:revision>
  <dc:subject/>
  <dc:title>Dia 1</dc:title>
</cp:coreProperties>
</file>